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C5E3-3BE6-422A-A520-1539D63120E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7ABDF-88AF-43EB-9B61-1CB663BC18C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45F8-2957-4B49-9648-3575898E84F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095D-1D59-4A9B-BB56-01A06BAD479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3749-B4E5-4F67-A0EE-7ADCC0FDCA8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421CC-F160-43B3-B609-2ACD4079C80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60963-A1DA-49A8-98D5-FD42D6113B5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CB25-6F32-4CE9-ACD1-231E0AE72FF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5B5B-6B8C-4173-B150-5B23AC9517C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ADA9-2794-418A-AB0B-A8B7BEC3D2F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AED7-A0DB-4159-85FC-F301412F290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D5BD-0957-4672-A36A-934DE3F1326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8FDA-38BA-4430-81FE-2D8C5F1F9A3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2798-9696-409C-BC0A-F91AC1606DD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7240" y="4343400"/>
            <a:ext cx="5483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7608-DFD1-45FF-BFF9-F8EF526AF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1794-73F9-4090-882C-BBCF9864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5A32-D1EF-440C-83A9-B143A50A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3F35-6318-4887-BA44-4890C918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FD18-61B1-4B16-902D-EBB111E6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53D2-D3EC-4857-A2BA-C0EA77EA2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888F-27B6-4D03-83F1-8437F7B6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047A-20DE-4BF6-BF1A-A96E2394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F864-6956-4000-A226-7F0D5D6BE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757A-0C71-4149-B6F7-393958FE1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A548-AE9E-420A-B9E5-7BC27243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BABB-7CB4-468E-8063-95F0251D7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5BCC8-AD0A-4861-AC84-8A066DD38FB3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838080" y="2438280"/>
            <a:ext cx="74678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3" descr="Katte Kollwitz sculpture 2"/>
          <p:cNvPicPr/>
          <p:nvPr/>
        </p:nvPicPr>
        <p:blipFill>
          <a:blip r:embed="rId1"/>
          <a:stretch/>
        </p:blipFill>
        <p:spPr>
          <a:xfrm>
            <a:off x="1979640" y="1197000"/>
            <a:ext cx="5113440" cy="38926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900000" y="333360"/>
            <a:ext cx="7245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800" spc="-1" strike="noStrike">
                <a:solidFill>
                  <a:srgbClr val="333399"/>
                </a:solidFill>
                <a:latin typeface="Constantia"/>
              </a:rPr>
              <a:t>CORONIAL ADVOCACY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0" y="5105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AU" sz="2000" spc="-1" strike="noStrike">
                <a:solidFill>
                  <a:srgbClr val="000000"/>
                </a:solidFill>
                <a:latin typeface="Times New Roman"/>
              </a:rPr>
              <a:t>Hugh Dillon, Deputy State Coroner &amp; Kirsten Edwards, Barr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Criminal CLE Conference, Sydney 15 September 20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Times New Roman"/>
              </a:rPr>
              <a:t>What an inquest should </a:t>
            </a:r>
            <a:r>
              <a:rPr b="0" i="1" lang="en-AU" sz="4400" spc="-1" strike="noStrike">
                <a:solidFill>
                  <a:srgbClr val="ff0000"/>
                </a:solidFill>
                <a:latin typeface="Times New Roman"/>
              </a:rPr>
              <a:t>not</a:t>
            </a:r>
            <a:r>
              <a:rPr b="0" lang="en-AU" sz="4400" spc="-1" strike="noStrike">
                <a:solidFill>
                  <a:srgbClr val="ff0000"/>
                </a:solidFill>
                <a:latin typeface="Times New Roman"/>
              </a:rPr>
              <a:t> b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Adversaries"/>
          <p:cNvPicPr/>
          <p:nvPr/>
        </p:nvPicPr>
        <p:blipFill>
          <a:blip r:embed="rId1"/>
          <a:stretch/>
        </p:blipFill>
        <p:spPr>
          <a:xfrm>
            <a:off x="2268360" y="2276640"/>
            <a:ext cx="4535640" cy="2952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Times New Roman"/>
              </a:rPr>
              <a:t>You are being watche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" descr="Sad man"/>
          <p:cNvPicPr/>
          <p:nvPr/>
        </p:nvPicPr>
        <p:blipFill>
          <a:blip r:embed="rId1"/>
          <a:stretch/>
        </p:blipFill>
        <p:spPr>
          <a:xfrm>
            <a:off x="1835280" y="1989000"/>
            <a:ext cx="5473440" cy="410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00"/>
                </a:solidFill>
                <a:latin typeface="Impact"/>
              </a:rPr>
              <a:t>What are we on abo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Cambodian victims of Pol Pot"/>
          <p:cNvPicPr/>
          <p:nvPr/>
        </p:nvPicPr>
        <p:blipFill>
          <a:blip r:embed="rId1"/>
          <a:stretch/>
        </p:blipFill>
        <p:spPr>
          <a:xfrm>
            <a:off x="1258920" y="2060640"/>
            <a:ext cx="6337440" cy="4032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371600" y="304920"/>
            <a:ext cx="7315200" cy="46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AU" sz="4400" spc="-1" strike="noStrike">
                <a:solidFill>
                  <a:srgbClr val="000000"/>
                </a:solidFill>
                <a:latin typeface="Times New Roman"/>
              </a:rPr>
              <a:t>A question which is raised by the case is how a society which would like to think of itself as being civilised, could allow a human being to be transported in such circumstances</a:t>
            </a:r>
            <a:r>
              <a:rPr b="1" i="1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Alistair Hope, State Coroner Western Austral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000" spc="-1" strike="noStrike">
                <a:solidFill>
                  <a:srgbClr val="000000"/>
                </a:solidFill>
                <a:latin typeface="Times New Roman"/>
              </a:rPr>
              <a:t>Findings on the death of Ian Ward, March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59920"/>
            <a:ext cx="7772400" cy="11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Comic Sans MS"/>
              </a:rPr>
              <a:t>Deaths Reported in NS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599840"/>
            <a:ext cx="77994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7200" indent="-1872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50,000 persons die annual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3399"/>
                </a:solidFill>
                <a:latin typeface="Times New Roman"/>
              </a:rPr>
              <a:t>6000 reportable to the Coron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240 inquests per annu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9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333399"/>
                </a:solidFill>
                <a:latin typeface="Times New Roman"/>
              </a:rPr>
              <a:t>In 2011, 174 matters were suspend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5600 findings made in chambers -- inquests are dispensed wi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ff3300"/>
                </a:solidFill>
                <a:latin typeface="Comic Sans MS"/>
              </a:rPr>
              <a:t>Should there be an inque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3" descr="the-thinker"/>
          <p:cNvPicPr/>
          <p:nvPr/>
        </p:nvPicPr>
        <p:blipFill>
          <a:blip r:embed="rId1"/>
          <a:stretch/>
        </p:blipFill>
        <p:spPr>
          <a:xfrm>
            <a:off x="2340000" y="1484280"/>
            <a:ext cx="41767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Comic Sans MS"/>
              </a:rPr>
              <a:t>Six Key Statutory Issu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Has someone died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Who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Whe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Physical cause of deat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Manner? (how? circumstances?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3300"/>
                </a:solidFill>
                <a:latin typeface="Comic Sans MS"/>
              </a:rPr>
              <a:t>Arguing for an inqu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D:\Documents and Settings\hdillo0\My Documents\My Pictures\Advocacy\Persuasion\persuasion 2.jpg"/>
          <p:cNvPicPr/>
          <p:nvPr/>
        </p:nvPicPr>
        <p:blipFill>
          <a:blip r:embed="rId1"/>
          <a:stretch/>
        </p:blipFill>
        <p:spPr>
          <a:xfrm>
            <a:off x="914400" y="1600200"/>
            <a:ext cx="741204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3300"/>
                </a:solidFill>
                <a:latin typeface="Impact"/>
              </a:rPr>
              <a:t>Prepa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D:\Documents and Settings\hdillo0\My Documents\My Pictures\Advocacy\Preparation\152-foresight-it-never-hurts-to-be-prepared.jpg"/>
          <p:cNvPicPr/>
          <p:nvPr/>
        </p:nvPicPr>
        <p:blipFill>
          <a:blip r:embed="rId1"/>
          <a:stretch/>
        </p:blipFill>
        <p:spPr>
          <a:xfrm>
            <a:off x="1147680" y="1447920"/>
            <a:ext cx="6846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3300"/>
                </a:solidFill>
                <a:latin typeface="Comic Sans MS"/>
              </a:rPr>
              <a:t>Roles of advoc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unsel Assi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unsel for fam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unsel for PO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Counsel for interested pa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9" descr="D:\Documents and Settings\hdillo0\My Documents\My Pictures\Advocacy\Martha QC.jpg"/>
          <p:cNvPicPr/>
          <p:nvPr/>
        </p:nvPicPr>
        <p:blipFill>
          <a:blip r:embed="rId1"/>
          <a:stretch/>
        </p:blipFill>
        <p:spPr>
          <a:xfrm>
            <a:off x="4419720" y="2286000"/>
            <a:ext cx="44193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Comic Sans MS"/>
              </a:rPr>
              <a:t>Three important prin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Fairness, natural jus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Relevance – limited scope of inqu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600" spc="-1" strike="noStrike">
                <a:solidFill>
                  <a:srgbClr val="000000"/>
                </a:solidFill>
                <a:latin typeface="Times New Roman"/>
              </a:rPr>
              <a:t>3.  No judgments – fact-finding on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ff0000"/>
                </a:solidFill>
                <a:latin typeface="Times New Roman"/>
              </a:rPr>
              <a:t>Zero in on the 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4" descr="u-boat periscope view"/>
          <p:cNvPicPr/>
          <p:nvPr/>
        </p:nvPicPr>
        <p:blipFill>
          <a:blip r:embed="rId1"/>
          <a:stretch/>
        </p:blipFill>
        <p:spPr>
          <a:xfrm>
            <a:off x="1905120" y="1612800"/>
            <a:ext cx="5333760" cy="3632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4T04:50:46Z</dcterms:created>
  <dc:creator>NSW Attorney General's Department</dc:creator>
  <dc:description/>
  <dc:language>en-US</dc:language>
  <cp:lastModifiedBy>Mark Dennis</cp:lastModifiedBy>
  <dcterms:modified xsi:type="dcterms:W3CDTF">2012-10-23T21:50:54Z</dcterms:modified>
  <cp:revision>2</cp:revision>
  <dc:subject/>
  <dc:title>PowerPoint Presentation</dc:title>
</cp:coreProperties>
</file>