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606-6D86-4411-B04C-F88804C1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CBC-DE76-4970-949A-48E92719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01D-B2FD-4472-8D99-286B4F54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A4C-803F-4C8D-85EE-4BA3E64D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7927-A9EF-4C14-BE61-CFD1D5FC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9582-BE22-43AF-9E82-0ABFC718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BCCB-79AB-4F85-99F8-9673CE93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0357-3CBB-4084-BD1F-46667B18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29E2-F205-4143-B3DF-C94C53ED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4B6D-11F2-4B6C-B0FE-1935B3D7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3D5B-0724-41E0-9DF3-071E33E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29A-ED0C-4C5F-BD6D-A376DB2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EE87-C140-474A-BE22-603B1538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1CFA-8896-4F83-B7A3-B16AFF03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12BD-074D-4624-B3B7-9C46EA39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BB10-0DFB-4985-9502-27D71FDC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E6F2-3997-4625-B93A-7C33ECA6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131-C78F-4869-8840-D816F94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4F0-FC91-42F7-A641-CFE394A2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3C8-994D-4926-95CA-79975622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4D8-2C3B-4DCB-9C8D-A4BE8D8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934-B82F-4F66-A3CE-0D3114D1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716-8B26-417D-B4E8-619FD3F1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1B6-D1EB-4A43-8353-7C1BDAC5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E637-134D-45D5-8F82-3DDCFCB7E6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BEA-2A84-4CDC-A238-A4E10E4574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The Credibility Rule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When, Why and H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idence that Discre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053720"/>
            <a:ext cx="821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Evidence relevant (or admissible) only to cred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he exclusionary rule deem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admissible: s 1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ss if the question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ubstantially affect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of the W’s cred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 103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te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nd consequences) for accused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1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uc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buttal ev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another sour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 denies etc the content of the assertion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1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Calibri"/>
              </a:rPr>
              <a:t>s 108 Exception: re-establishing cred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redibility rule </a:t>
            </a:r>
            <a:r>
              <a:rPr b="1" lang="en-US" sz="2800" spc="-1" strike="noStrike">
                <a:solidFill>
                  <a:srgbClr val="0099cc"/>
                </a:solidFill>
                <a:latin typeface="Calibri"/>
              </a:rPr>
              <a:t>does not apply</a:t>
            </a:r>
            <a:r>
              <a:rPr b="0" lang="en-US" sz="2800" spc="-1" strike="noStrike">
                <a:solidFill>
                  <a:srgbClr val="0099cc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vidence adduced in </a:t>
            </a:r>
            <a:r>
              <a:rPr b="1" lang="en-US" sz="2800" spc="-1" strike="noStrike">
                <a:solidFill>
                  <a:srgbClr val="0099cc"/>
                </a:solidFill>
                <a:latin typeface="Calibri"/>
              </a:rPr>
              <a:t>re-examination</a:t>
            </a:r>
            <a:r>
              <a:rPr b="0" lang="en-US" sz="2800" spc="-1" strike="noStrike">
                <a:solidFill>
                  <a:srgbClr val="00cc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a wit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3) The credibility rule </a:t>
            </a:r>
            <a:r>
              <a:rPr b="1" lang="en-US" sz="2800" spc="-1" strike="noStrike">
                <a:solidFill>
                  <a:srgbClr val="0099cc"/>
                </a:solidFill>
                <a:latin typeface="Calibri"/>
              </a:rPr>
              <a:t>does not app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vidence of a</a:t>
            </a: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Calibri"/>
              </a:rPr>
              <a:t>prior consistent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witness 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of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or inconsistent stat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witness has be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t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ll b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ggested (either expressly or by implication) th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iven by the witness has be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bricated or re-constru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whether deliberately or otherwise) or is the result of a sugges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Calibri"/>
              </a:rPr>
              <a:t>and the court gives leave</a:t>
            </a:r>
            <a:r>
              <a:rPr b="0" lang="en-US" sz="2400" spc="-1" strike="noStrike">
                <a:solidFill>
                  <a:srgbClr val="0099c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duce the evidence of the prior consistent stat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B Section 19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idence that Accre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053720"/>
            <a:ext cx="821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Evidence relevant (or admissible) only to cred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he exclusionary rule deem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admissible: s 1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-examination (RX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stions relating to credibility permissible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 108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/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or consistent state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PCS)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X or ex-in-chie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 108(3)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S admiss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b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PIS or suggestion of l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B Leave required for PC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s 19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2060"/>
                </a:solidFill>
                <a:latin typeface="Calibri"/>
              </a:rPr>
              <a:t>In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70c0"/>
                </a:solidFill>
                <a:latin typeface="Calibri"/>
              </a:rPr>
              <a:t>Does the credibility evidence exclusionary rule app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Definitions of credibility/credibility evidence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en the exclusionary rule will apply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s 101A and 1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70c0"/>
                </a:solidFill>
                <a:latin typeface="Calibri"/>
              </a:rPr>
              <a:t>Does the evidence discred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XX a witness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XX of an accused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vidence to rebut the denial of a witness during XX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vidence from an expert re credibility: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70c0"/>
                </a:solidFill>
                <a:latin typeface="Calibri"/>
              </a:rPr>
              <a:t>Does the evidence accred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-ex &amp; PCS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vidence from an expert re credibility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70c0"/>
                </a:solidFill>
                <a:latin typeface="Calibri"/>
              </a:rPr>
              <a:t>Does the evidence relate to a rep from a person who has not been called as a witnes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ll people except the accused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dditional protections for an accused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70c0"/>
                </a:solidFill>
                <a:latin typeface="Calibri"/>
              </a:rPr>
              <a:t>Does the adducing of the evidence require an application for leav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actors for consideration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68360" y="1197000"/>
            <a:ext cx="82072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redibility of a witn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s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redibi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ny part or al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evidence of the witn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includes the witness’s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bility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to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bserv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emember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s and events about which the witness has given, is giving or is to give evid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Plain language transl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believable and reliable is (some or all of) the evidence from a witn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redibility of a pers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so defined. Essentially the same definition but applied to an out-of-court representation that has been admitted into evid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5760" indent="6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Evidence can be relevant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or MORE than one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5760" indent="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5760" indent="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5760" indent="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5760" indent="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5760" indent="6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Organization Chart 5"/>
          <p:cNvGrpSpPr/>
          <p:nvPr/>
        </p:nvGrpSpPr>
        <p:grpSpPr>
          <a:xfrm>
            <a:off x="1619280" y="2016000"/>
            <a:ext cx="5760720" cy="3285720"/>
            <a:chOff x="1619280" y="2016000"/>
            <a:chExt cx="5760720" cy="3285720"/>
          </a:xfrm>
        </p:grpSpPr>
        <p:cxnSp>
          <p:nvCxnSpPr>
            <p:cNvPr id="88" name="_s1028"/>
            <p:cNvCxnSpPr>
              <a:stCxn id="89" idx="0"/>
              <a:endCxn id="90" idx="2"/>
            </p:cNvCxnSpPr>
            <p:nvPr/>
          </p:nvCxnSpPr>
          <p:spPr>
            <a:xfrm flipV="1" rot="16200000">
              <a:off x="5362200" y="2658960"/>
              <a:ext cx="352080" cy="1945080"/>
            </a:xfrm>
            <a:prstGeom prst="bentConnector3">
              <a:avLst>
                <a:gd name="adj1" fmla="val 499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9"/>
            <p:cNvCxnSpPr>
              <a:stCxn id="92" idx="0"/>
              <a:endCxn id="90" idx="2"/>
            </p:cNvCxnSpPr>
            <p:nvPr/>
          </p:nvCxnSpPr>
          <p:spPr>
            <a:xfrm flipH="1" flipV="1">
              <a:off x="4566960" y="3453480"/>
              <a:ext cx="29160" cy="35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0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3367080" y="2604960"/>
              <a:ext cx="352080" cy="2049120"/>
            </a:xfrm>
            <a:prstGeom prst="bentConnector3">
              <a:avLst>
                <a:gd name="adj1" fmla="val 499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1031"/>
            <p:cNvSpPr/>
            <p:nvPr/>
          </p:nvSpPr>
          <p:spPr>
            <a:xfrm>
              <a:off x="3637800" y="2016000"/>
              <a:ext cx="1859760" cy="143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vidence can b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levant to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032"/>
            <p:cNvSpPr/>
            <p:nvPr/>
          </p:nvSpPr>
          <p:spPr>
            <a:xfrm>
              <a:off x="1619280" y="3805560"/>
              <a:ext cx="1800720" cy="1496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act in issue (FII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cl ru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oes not ari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_s1033"/>
            <p:cNvSpPr/>
            <p:nvPr/>
          </p:nvSpPr>
          <p:spPr>
            <a:xfrm>
              <a:off x="3708000" y="3805560"/>
              <a:ext cx="1778040" cy="1496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II &amp;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edibilit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cl ru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GHT appl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_s1034"/>
            <p:cNvSpPr/>
            <p:nvPr/>
          </p:nvSpPr>
          <p:spPr>
            <a:xfrm>
              <a:off x="5645160" y="3805560"/>
              <a:ext cx="1734840" cy="1496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edibility onl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cl ru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ILL appl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ion 101A: definition of credibility</a:t>
            </a:r>
            <a:br>
              <a:rPr sz="3600"/>
            </a:b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(inserted in reaction to High Court decision in </a:t>
            </a: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Adam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0a0"/>
                </a:solidFill>
                <a:latin typeface="Calibri"/>
              </a:rPr>
              <a:t>Credibility evidenc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in relation to a witness or other person, is evidence relevant to the credibility of the witness or person th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s relevant </a:t>
            </a:r>
            <a:r>
              <a:rPr b="0" lang="en-AU" sz="2800" spc="-1" strike="noStrike">
                <a:solidFill>
                  <a:srgbClr val="7030a0"/>
                </a:solidFill>
                <a:latin typeface="Calibri"/>
              </a:rPr>
              <a:t>onl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because it affects the 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0" lang="en-AU" sz="2800" spc="-1" strike="noStrike">
                <a:solidFill>
                  <a:srgbClr val="7030a0"/>
                </a:solidFill>
                <a:latin typeface="Calibri"/>
              </a:rPr>
              <a:t>credibilit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of the witness or person;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2800" spc="-1" strike="noStrike">
                <a:solidFill>
                  <a:srgbClr val="9900ff"/>
                </a:solidFill>
                <a:latin typeface="Calibri"/>
              </a:rPr>
              <a:t>is releva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(i)   </a:t>
            </a:r>
            <a:r>
              <a:rPr b="0" lang="en-AU" sz="2800" spc="-1" strike="noStrike">
                <a:solidFill>
                  <a:srgbClr val="cc66ff"/>
                </a:solidFill>
                <a:latin typeface="Calibri"/>
              </a:rPr>
              <a:t>because it affects the assessment of th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66ff"/>
                </a:solidFill>
                <a:latin typeface="Calibri"/>
              </a:rPr>
              <a:t>             </a:t>
            </a:r>
            <a:r>
              <a:rPr b="0" lang="en-AU" sz="2800" spc="-1" strike="noStrike">
                <a:solidFill>
                  <a:srgbClr val="cc66ff"/>
                </a:solidFill>
                <a:latin typeface="Calibri"/>
              </a:rPr>
              <a:t>credibility of the witness or person; and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(ii)  </a:t>
            </a:r>
            <a:r>
              <a:rPr b="0" lang="en-AU" sz="2800" spc="-1" strike="noStrike">
                <a:solidFill>
                  <a:srgbClr val="9900ff"/>
                </a:solidFill>
                <a:latin typeface="Calibri"/>
              </a:rPr>
              <a:t>for some </a:t>
            </a:r>
            <a:r>
              <a:rPr b="1" lang="en-AU" sz="2800" spc="-1" strike="noStrike">
                <a:solidFill>
                  <a:srgbClr val="9900ff"/>
                </a:solidFill>
                <a:latin typeface="Calibri"/>
              </a:rPr>
              <a:t>other purpose</a:t>
            </a:r>
            <a:r>
              <a:rPr b="0" lang="en-AU" sz="2800" spc="-1" strike="noStrike">
                <a:solidFill>
                  <a:srgbClr val="9900ff"/>
                </a:solidFill>
                <a:latin typeface="Calibri"/>
              </a:rPr>
              <a:t> for which it is </a:t>
            </a:r>
            <a:r>
              <a:rPr b="1" lang="en-AU" sz="2800" spc="-1" strike="noStrike">
                <a:solidFill>
                  <a:srgbClr val="9900ff"/>
                </a:solidFill>
                <a:latin typeface="Calibri"/>
              </a:rPr>
              <a:t>n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9900ff"/>
                </a:solidFill>
                <a:latin typeface="Calibri"/>
              </a:rPr>
              <a:t>             </a:t>
            </a:r>
            <a:r>
              <a:rPr b="1" lang="en-AU" sz="2800" spc="-1" strike="noStrike">
                <a:solidFill>
                  <a:srgbClr val="9900ff"/>
                </a:solidFill>
                <a:latin typeface="Calibri"/>
              </a:rPr>
              <a:t>admissible, or cannot be used, </a:t>
            </a:r>
            <a:r>
              <a:rPr b="0" lang="en-AU" sz="2800" spc="-1" strike="noStrike">
                <a:solidFill>
                  <a:srgbClr val="9900ff"/>
                </a:solidFill>
                <a:latin typeface="Calibri"/>
              </a:rPr>
              <a:t>because of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00ff"/>
                </a:solidFill>
                <a:latin typeface="Calibri"/>
              </a:rPr>
              <a:t>             </a:t>
            </a:r>
            <a:r>
              <a:rPr b="0" lang="en-AU" sz="2800" spc="-1" strike="noStrike">
                <a:solidFill>
                  <a:srgbClr val="9900ff"/>
                </a:solidFill>
                <a:latin typeface="Calibri"/>
              </a:rPr>
              <a:t>provision of Parts 3.2 to 3.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alibri"/>
              </a:rPr>
              <a:t>The effect of s 101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Organization Chart 7"/>
          <p:cNvGrpSpPr/>
          <p:nvPr/>
        </p:nvGrpSpPr>
        <p:grpSpPr>
          <a:xfrm>
            <a:off x="395280" y="1052640"/>
            <a:ext cx="8594280" cy="5733720"/>
            <a:chOff x="395280" y="1052640"/>
            <a:chExt cx="8594280" cy="5733720"/>
          </a:xfrm>
        </p:grpSpPr>
        <p:cxnSp>
          <p:nvCxnSpPr>
            <p:cNvPr id="99" name="_s2052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879520" y="1484280"/>
              <a:ext cx="253080" cy="2629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053"/>
            <p:cNvCxnSpPr>
              <a:stCxn id="103" idx="0"/>
              <a:endCxn id="101" idx="2"/>
            </p:cNvCxnSpPr>
            <p:nvPr/>
          </p:nvCxnSpPr>
          <p:spPr>
            <a:xfrm flipV="1">
              <a:off x="4680720" y="2672640"/>
              <a:ext cx="12240" cy="325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054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3245760" y="1478520"/>
              <a:ext cx="253080" cy="264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2055"/>
            <p:cNvSpPr/>
            <p:nvPr/>
          </p:nvSpPr>
          <p:spPr>
            <a:xfrm>
              <a:off x="3464280" y="1052640"/>
              <a:ext cx="2455920" cy="16203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here evid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s relevant to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II &amp; CRED: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2056"/>
            <p:cNvSpPr/>
            <p:nvPr/>
          </p:nvSpPr>
          <p:spPr>
            <a:xfrm>
              <a:off x="395280" y="2925360"/>
              <a:ext cx="3311640" cy="3861000"/>
            </a:xfrm>
            <a:custGeom>
              <a:avLst/>
              <a:gdLst>
                <a:gd name="textAreaLeft" fmla="*/ 161640 w 3311640"/>
                <a:gd name="textAreaRight" fmla="*/ 3150000 w 3311640"/>
                <a:gd name="textAreaTop" fmla="*/ 161640 h 3861000"/>
                <a:gd name="textAreaBottom" fmla="*/ 3699360 h 3861000"/>
              </a:gdLst>
              <a:ahLst/>
              <a:rect l="textAreaLeft" t="textAreaTop" r="textAreaRight" b="textAreaBottom"/>
              <a:pathLst>
                <a:path w="21600" h="25183">
                  <a:moveTo>
                    <a:pt x="3600" y="0"/>
                  </a:moveTo>
                  <a:arcTo wR="3600" hR="3600" stAng="16200000" swAng="-5400000"/>
                  <a:lnTo>
                    <a:pt x="0" y="21583"/>
                  </a:lnTo>
                  <a:arcTo wR="3600" hR="3600" stAng="10800000" swAng="-5400000"/>
                  <a:lnTo>
                    <a:pt x="18000" y="251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f ADMISSIB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or its FII purpo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an also be use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or its credibility purpo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(s 102 does not apply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e not caught by th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xclusionary rule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_s2057"/>
            <p:cNvSpPr/>
            <p:nvPr/>
          </p:nvSpPr>
          <p:spPr>
            <a:xfrm>
              <a:off x="4067280" y="2997720"/>
              <a:ext cx="1224000" cy="3752640"/>
            </a:xfrm>
            <a:custGeom>
              <a:avLst/>
              <a:gdLst>
                <a:gd name="textAreaLeft" fmla="*/ 59760 w 1224000"/>
                <a:gd name="textAreaRight" fmla="*/ 1164240 w 1224000"/>
                <a:gd name="textAreaTop" fmla="*/ 59760 h 3752640"/>
                <a:gd name="textAreaBottom" fmla="*/ 3692880 h 3752640"/>
              </a:gdLst>
              <a:ahLst/>
              <a:rect l="textAreaLeft" t="textAreaTop" r="textAreaRight" b="textAreaBottom"/>
              <a:pathLst>
                <a:path w="21600" h="66210">
                  <a:moveTo>
                    <a:pt x="3600" y="0"/>
                  </a:moveTo>
                  <a:arcTo wR="3600" hR="3600" stAng="16200000" swAng="-5400000"/>
                  <a:lnTo>
                    <a:pt x="0" y="62610"/>
                  </a:lnTo>
                  <a:arcTo wR="3600" hR="3600" stAng="10800000" swAng="-5400000"/>
                  <a:lnTo>
                    <a:pt x="18000" y="66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_s2058"/>
            <p:cNvSpPr/>
            <p:nvPr/>
          </p:nvSpPr>
          <p:spPr>
            <a:xfrm>
              <a:off x="5652360" y="2925360"/>
              <a:ext cx="3337200" cy="3861000"/>
            </a:xfrm>
            <a:custGeom>
              <a:avLst/>
              <a:gdLst>
                <a:gd name="textAreaLeft" fmla="*/ 162720 w 3337200"/>
                <a:gd name="textAreaRight" fmla="*/ 3174480 w 3337200"/>
                <a:gd name="textAreaTop" fmla="*/ 162720 h 3861000"/>
                <a:gd name="textAreaBottom" fmla="*/ 3698280 h 3861000"/>
              </a:gdLst>
              <a:ahLst/>
              <a:rect l="textAreaLeft" t="textAreaTop" r="textAreaRight" b="textAreaBottom"/>
              <a:pathLst>
                <a:path w="21600" h="24990">
                  <a:moveTo>
                    <a:pt x="3600" y="0"/>
                  </a:moveTo>
                  <a:arcTo wR="3600" hR="3600" stAng="16200000" swAng="-5400000"/>
                  <a:lnTo>
                    <a:pt x="0" y="21390"/>
                  </a:lnTo>
                  <a:arcTo wR="3600" hR="3600" stAng="10800000" swAng="-5400000"/>
                  <a:lnTo>
                    <a:pt x="18000" y="249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f INADMISSIB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or its FII purpo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(eg due to hearsay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he only allowable u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s for credibility purpo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 101A means th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xclusionary rule (s 102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ill appl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dmissibility will requir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n exception to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he credibility ru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2060"/>
                </a:solidFill>
                <a:latin typeface="Calibri"/>
              </a:rPr>
              <a:t>Exceptions to the exclusionary r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70c0"/>
                </a:solidFill>
                <a:latin typeface="Calibri"/>
              </a:rPr>
              <a:t>Evidence that discredi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witness during XX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n accused during XX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witness by adducing evidence to rebut a denial of a credibility impeachment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y adducing evidence from an expert re credibility: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70c0"/>
                </a:solidFill>
                <a:latin typeface="Calibri"/>
              </a:rPr>
              <a:t>Evidence that accredi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witness/accused in re-ex &amp; prior consistent statements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y adducing evidence from an expert re credibility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70c0"/>
                </a:solidFill>
                <a:latin typeface="Calibri"/>
              </a:rPr>
              <a:t>Credibility of non-witnesses whose representation has been admitted into evidenc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 all people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 an accused (in addition to s 108A): </a:t>
            </a:r>
            <a:r>
              <a:rPr b="1" lang="en-AU" sz="2000" spc="-1" strike="noStrike">
                <a:solidFill>
                  <a:srgbClr val="ff0000"/>
                </a:solidFill>
                <a:latin typeface="Calibri"/>
              </a:rPr>
              <a:t>s 108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99cc"/>
                </a:solidFill>
                <a:latin typeface="Calibri"/>
              </a:rPr>
              <a:t> </a:t>
            </a:r>
            <a:r>
              <a:rPr b="1" lang="en-AU" sz="4000" spc="-1" strike="noStrike">
                <a:solidFill>
                  <a:srgbClr val="0099cc"/>
                </a:solidFill>
                <a:latin typeface="Calibri"/>
              </a:rPr>
              <a:t>s 103 Exception: XX as to cred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credibility rule does not apply to evidence adduced in cross-examination of a witness if the evidence </a:t>
            </a:r>
            <a:r>
              <a:rPr b="1" lang="en-AU" sz="2200" spc="-1" strike="noStrike">
                <a:solidFill>
                  <a:srgbClr val="0099cc"/>
                </a:solidFill>
                <a:latin typeface="Calibri"/>
              </a:rPr>
              <a:t>could</a:t>
            </a:r>
            <a:r>
              <a:rPr b="0" lang="en-AU" sz="2200" spc="-1" strike="noStrike">
                <a:solidFill>
                  <a:srgbClr val="0099cc"/>
                </a:solidFill>
                <a:latin typeface="Calibri"/>
              </a:rPr>
              <a:t> </a:t>
            </a:r>
            <a:r>
              <a:rPr b="1" lang="en-AU" sz="2200" spc="-1" strike="noStrike">
                <a:solidFill>
                  <a:srgbClr val="0099cc"/>
                </a:solidFill>
                <a:latin typeface="Calibri"/>
              </a:rPr>
              <a:t>substantially</a:t>
            </a:r>
            <a:r>
              <a:rPr b="0" lang="en-AU" sz="2200" spc="-1" strike="noStrike">
                <a:solidFill>
                  <a:srgbClr val="0099cc"/>
                </a:solidFill>
                <a:latin typeface="Calibri"/>
              </a:rPr>
              <a:t> </a:t>
            </a:r>
            <a:r>
              <a:rPr b="1" lang="en-AU" sz="2200" spc="-1" strike="noStrike">
                <a:solidFill>
                  <a:srgbClr val="0099cc"/>
                </a:solidFill>
                <a:latin typeface="Calibri"/>
              </a:rPr>
              <a:t>affect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the assessment of the credibility of the witne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9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9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Without limiting the matters to which the court may have regard for the purposes of subsection (1), it is to have regard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(a) whether the evidence tends to prove that the witness knowingly or recklessly </a:t>
            </a:r>
            <a:r>
              <a:rPr b="1" lang="en-AU" sz="2200" spc="-1" strike="noStrike">
                <a:solidFill>
                  <a:srgbClr val="0099cc"/>
                </a:solidFill>
                <a:latin typeface="Calibri"/>
              </a:rPr>
              <a:t>made a false representation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AU" sz="2200" spc="-1" strike="noStrike">
                <a:solidFill>
                  <a:srgbClr val="0099cc"/>
                </a:solidFill>
                <a:latin typeface="Calibri"/>
              </a:rPr>
              <a:t>when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the witness was </a:t>
            </a:r>
            <a:r>
              <a:rPr b="1" lang="en-AU" sz="2200" spc="-1" strike="noStrike">
                <a:solidFill>
                  <a:srgbClr val="0099cc"/>
                </a:solidFill>
                <a:latin typeface="Calibri"/>
              </a:rPr>
              <a:t>under an obligation to tell the truth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; an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(b) the </a:t>
            </a:r>
            <a:r>
              <a:rPr b="1" lang="en-AU" sz="2200" spc="-1" strike="noStrike">
                <a:solidFill>
                  <a:srgbClr val="0099cc"/>
                </a:solidFill>
                <a:latin typeface="Calibri"/>
              </a:rPr>
              <a:t>period that has elapsed</a:t>
            </a:r>
            <a:r>
              <a:rPr b="0" lang="en-AU" sz="2200" spc="-1" strike="noStrike">
                <a:solidFill>
                  <a:srgbClr val="0099cc"/>
                </a:solidFill>
                <a:latin typeface="Calibri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ince the acts or events to which the evidence relates were done or occurr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99cc"/>
                </a:solidFill>
                <a:latin typeface="Calibri"/>
              </a:rPr>
              <a:t> </a:t>
            </a:r>
            <a:r>
              <a:rPr b="1" lang="en-AU" sz="2800" spc="-1" strike="noStrike">
                <a:solidFill>
                  <a:srgbClr val="0099cc"/>
                </a:solidFill>
                <a:latin typeface="Calibri"/>
              </a:rPr>
              <a:t>s 104 Further protections: XX the acc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78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pplies in addition to s 1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eave is to be sought to XX the defendant on a matter relevant to c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ros </a:t>
            </a:r>
            <a:r>
              <a:rPr b="1" lang="en-AU" sz="2000" spc="-1" strike="noStrike">
                <a:solidFill>
                  <a:srgbClr val="0099cc"/>
                </a:solidFill>
                <a:latin typeface="Calibri"/>
              </a:rPr>
              <a:t>do not need leave if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XX goes to whether the defendant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47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ased or has a mot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being untruthful, 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47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, or wa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able to be awa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or recall matters to which evid relates, 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s mad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or inconsistent stat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6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Calibri"/>
              </a:rPr>
              <a:t>Leave not to be given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nder (2) </a:t>
            </a:r>
            <a:r>
              <a:rPr b="1" lang="en-AU" sz="2000" spc="-1" strike="noStrike">
                <a:solidFill>
                  <a:srgbClr val="0099cc"/>
                </a:solidFill>
                <a:latin typeface="Calibri"/>
              </a:rPr>
              <a:t>unless def presented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evidence th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nds to prove that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ness called by the p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a tendency to b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truthfu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relevant solely or mainly to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ness’s credi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f in (4) does not include evidence of conduct in relation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ts relating to the defendant’s prosecution;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vestigation of the matter being prosecu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6)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eave not to be given in relation to a co-accused unless: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B Section 1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Calibri"/>
              </a:rPr>
              <a:t>S 106 Exception: rebutting denials with other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1) The credibility rule </a:t>
            </a:r>
            <a:r>
              <a:rPr b="1" lang="en-US" sz="2200" spc="-1" strike="noStrike">
                <a:solidFill>
                  <a:srgbClr val="0099cc"/>
                </a:solidFill>
                <a:latin typeface="Calibri"/>
              </a:rPr>
              <a:t>does not app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evidence relevant to a witness’s credibility, adduced otherwise than from the witness </a:t>
            </a:r>
            <a:r>
              <a:rPr b="1" lang="en-US" sz="2200" spc="-1" strike="noStrike">
                <a:solidFill>
                  <a:srgbClr val="0099cc"/>
                </a:solidFill>
                <a:latin typeface="Calibri"/>
              </a:rPr>
              <a:t>i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XX of the witnes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-4294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bstance of the evidence was put to the wit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&amp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-4294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witnes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deni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d not admit or agree t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the substance of the evidence, &amp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r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ives lea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dduce the eviden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US" sz="2200" spc="-1" strike="noStrike">
                <a:solidFill>
                  <a:srgbClr val="0099cc"/>
                </a:solidFill>
                <a:latin typeface="Calibri"/>
              </a:rPr>
              <a:t>Leave under (1)(b) is not required</a:t>
            </a:r>
            <a:r>
              <a:rPr b="0" lang="en-US" sz="2200" spc="-1" strike="noStrike">
                <a:solidFill>
                  <a:srgbClr val="0099cc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evid tends to prove the W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iased or has a mo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or being untruthful, 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bee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victed of an offen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(incl foreign country), 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made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or inconsistent stat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, or was,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nable to be awa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matters that his/her evid relates, 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-4294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knowingly or reckless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de a false represen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hile under an obligation, imposed by or under an Australian law or a law of a foreign country, to tell the tru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B Section 1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16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7:15:41Z</dcterms:created>
  <dc:creator>Admin</dc:creator>
  <dc:description/>
  <dc:language>en-US</dc:language>
  <cp:lastModifiedBy>Mark Dennis</cp:lastModifiedBy>
  <dcterms:modified xsi:type="dcterms:W3CDTF">2012-08-20T22:02:40Z</dcterms:modified>
  <cp:revision>312</cp:revision>
  <dc:subject/>
  <dc:title>Slide 1</dc:title>
</cp:coreProperties>
</file>