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BE6-C026-4C6A-8658-A757D50A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A40-1871-45CC-B6E4-9010064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900-C521-4239-8AA4-4AD200C0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1AB-DC7D-4B41-A326-BF53A60E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D968-2D90-4484-9047-1E2A2EB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C67C-55CB-40EF-9BB3-83955D0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1BB-01D5-44E2-9E08-47D60FC2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CAA-5EE2-4857-968E-3162E86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D46E-8261-4090-8DC4-4960B41E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286-EB70-415D-BB37-113DC98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44C2-018A-4C46-BC85-44DFA69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788-1BC4-4ADA-A269-4D7ABDFF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CB2-2052-40A6-A551-C8734E7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E74A-B3ED-45B2-95E3-41FD278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A526-02DF-40FE-91E3-9D3EB457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0F8D-73CD-46E0-B7EB-E4A8DA95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5A1C-4584-43B4-BEFB-F124F546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984-B236-46F8-9860-197F83F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DA1-BE50-407A-A94D-58B49C4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F67-90FA-4318-AFCF-68215C0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0B2-C7A0-481F-820F-6E8BB80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3AA-E390-4004-A798-408CE1D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59F-3F44-466D-A866-742D2E5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EB8-8410-42A9-B6D1-9FE21A0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10E4-6C06-4070-8295-CD5D713AFFC8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ACB-4868-4660-9492-21246C98F8DA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77629e38"/>
          <p:cNvPicPr/>
          <p:nvPr/>
        </p:nvPicPr>
        <p:blipFill>
          <a:blip r:embed="rId1"/>
          <a:stretch/>
        </p:blipFill>
        <p:spPr>
          <a:xfrm>
            <a:off x="2425680" y="333360"/>
            <a:ext cx="4292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ames and ages of any children with whom they ordinarily reside or have unsupervised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tails of any club or organisation which has child participation or membership, where they have an affil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tails of tattoos or other distinguishing ma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es of interstate absences of over 14 days as well as regular short abs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d mo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lephon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net service provi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ype of internet connection (wireless, broadband, ADSL or dial-u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tails of email addresses, internet user names, instant messaging user names, chat room user names or any other names or identites used or intended to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hildabuse"/>
          <p:cNvPicPr/>
          <p:nvPr/>
        </p:nvPicPr>
        <p:blipFill>
          <a:blip r:embed="rId1"/>
          <a:stretch/>
        </p:blipFill>
        <p:spPr>
          <a:xfrm>
            <a:off x="1187280" y="1844640"/>
            <a:ext cx="3240360" cy="3718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on the Regi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years for one Class 2 off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years for one Class 1 or two Class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for a Class 1 &amp; Class 2 or more than two registrable off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s are halved for juven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hildren Che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7" descr=""/>
          <p:cNvPicPr/>
          <p:nvPr/>
        </p:nvPicPr>
        <p:blipFill>
          <a:blip r:embed="rId1"/>
          <a:stretch/>
        </p:blipFill>
        <p:spPr>
          <a:xfrm>
            <a:off x="457200" y="1584360"/>
            <a:ext cx="82296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urial Punishmen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24A Crimes (Sentencing Procedure) 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hibition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ng with specified persons or kinds of pers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in specified locations or kinds of 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in specified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in specified employ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exampl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espondent shall not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378000" y="835200"/>
            <a:ext cx="8259480" cy="45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523800" y="822240"/>
            <a:ext cx="82598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ffences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17 Child Protection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registrable person must not fail to comply with any of the person’s reporting obligations without reasonable exc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 Protection Regist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going consequences of child sex offences and offences relating to non-compli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vADULTERER_narrowweb__300x300"/>
          <p:cNvPicPr/>
          <p:nvPr/>
        </p:nvPicPr>
        <p:blipFill>
          <a:blip r:embed="rId1"/>
          <a:stretch/>
        </p:blipFill>
        <p:spPr>
          <a:xfrm>
            <a:off x="2195640" y="105264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sonable Excu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determining whether a registrable person had a reasonable excuse … the court … is to have regard to the following matter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) the person’s ag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b) whether the person has a disability that affects the person’s ability to understand, or to comply with, those obligat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b1) whether the form of the notification given to the person as to the person’s obligations was adequate to inform the person of those obligations, having regard to the person’s circumstanc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) any matter prescribed by the regulat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d) any other matter the court considers appropri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17 – Fail to comply with reporting obligations –between 4/08 &amp; 3/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465120" y="1600200"/>
          <a:ext cx="8213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fender Prohibition Order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13(1) contravene prohibition orde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3 ca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465120" y="1600200"/>
          <a:ext cx="8213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SW Ombudsman – Surv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effect of being on the Regis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7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340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oc482526d418a50143851003"/>
          <p:cNvPicPr/>
          <p:nvPr/>
        </p:nvPicPr>
        <p:blipFill>
          <a:blip r:embed="rId1"/>
          <a:stretch/>
        </p:blipFill>
        <p:spPr>
          <a:xfrm>
            <a:off x="1238400" y="1252440"/>
            <a:ext cx="6667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Child Protection (Offenders Registration) Act 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Child Protection (Offenders Prohibition Orders) Act 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yse"/>
          <p:cNvPicPr/>
          <p:nvPr/>
        </p:nvPicPr>
        <p:blipFill>
          <a:blip r:embed="rId1"/>
          <a:stretch/>
        </p:blipFill>
        <p:spPr>
          <a:xfrm>
            <a:off x="2236680" y="549360"/>
            <a:ext cx="4611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ebcindex"/>
          <p:cNvPicPr/>
          <p:nvPr/>
        </p:nvPicPr>
        <p:blipFill>
          <a:blip r:embed="rId1"/>
          <a:stretch/>
        </p:blipFill>
        <p:spPr>
          <a:xfrm>
            <a:off x="2724120" y="738360"/>
            <a:ext cx="369576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reau of Crime Statistics &amp;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9-2010 of the people found guilty of a sexual offence against a child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4% had no prior convi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% had a prior conviction for sexual assault (adult or chi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lass 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fences include the murder of a child and sexual intercourse with a child.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lass 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fences include acts of indecency, possession of child pornography, kidnapping of a child, filming a child for indecent purposes, grooming offen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ceptions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repo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ir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e of bi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al ad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employment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of their motor vehicle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of their registrable off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41:11Z</dcterms:created>
  <dc:creator>Legal Aid Commission of NSW</dc:creator>
  <dc:description/>
  <dc:language>en-US</dc:language>
  <cp:lastModifiedBy>Mark Dennis</cp:lastModifiedBy>
  <dcterms:modified xsi:type="dcterms:W3CDTF">2012-10-09T01:15:04Z</dcterms:modified>
  <cp:revision>21</cp:revision>
  <dc:subject/>
  <dc:title>Child Sex Offender Register  </dc:title>
</cp:coreProperties>
</file>